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940EA05-D6B4-46AE-9B61-BF3AEEAB52F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472F704-FF25-408B-9D8B-6383E1CAD00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55A206C-39F9-452A-90C6-E0B55F6950B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31F5EAD-4D0C-4D40-BF76-A853252E73E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401F9EA-EF6C-47C4-9DDC-B0977FD577B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E1450B9-7006-49E0-8EED-F888414A584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5165040-A29F-4916-A40D-BE57CE9B6EF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9120416-254B-4073-A4B0-782CA92CED0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F0A90A0-E8E0-41D1-991E-704E173113A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475030B-264F-4928-9348-ABBA9A93C0C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0F3DE0C-501C-4118-B13E-41891556E41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9A14044-404A-4146-B417-2AED9FA2253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B4B76FF-B245-4BD5-A262-E63D2E105E7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E64ECE9-F52D-455B-8EE8-C657AB8BF8A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627896F-B307-4C5F-A258-5D84EDCCD36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5A2C23C-A57D-46EC-9A1A-BD5B7B905D2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7A3592B-F36D-45E4-96F3-05786D365D6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0744144-7599-4DFE-9AFF-6C28E13AB63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6F24EB8-EFD8-4AD8-9371-57D50ECA949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16FF946-CB79-4F8D-8441-B549A28A944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10BB6D6-3EB6-46DA-BEBE-2A4EC510D84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ECB8E15-42A9-4DB5-8C12-0CEE5DEECCB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3D15ED1-5DAA-47D5-9603-C02A32F48A2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C35D3C5-60E8-43B6-8F0F-D0B8EA6911E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4802795-BEF0-4ECB-BE68-39833336991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46238ED-D501-4BC3-8BB6-8DA359FD763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52FEB01-E43C-4701-B2B6-4679C1EC3C5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437-1BE0-4F99-B6FC-46AD47B7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EF1-F31B-4F0E-AC8C-58853D5D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B91-9535-4FBC-839F-A3020ACA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EA3-EE20-483B-852D-50C9521C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720-023C-452A-B8CB-46DC712E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138-9A9F-467D-AEC3-2DA1D4CD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812-48E8-4A1E-A96E-D07CD76D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FC9-F526-4921-B632-4807E03E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EFF-F34C-4BA2-8C53-CFDBA63D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33C-991A-42EF-A8C4-D288043C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20B-A838-4ADA-B91B-581093F4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90C-41AC-46BB-867C-99C0077B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3D99-229C-473E-A984-F995BCFE743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FE8F-C06D-4424-8AD3-164D9D9564E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86920" y="1916280"/>
            <a:ext cx="723924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Youthp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55" name="Line 8"/>
          <p:cNvSpPr/>
          <p:nvPr/>
        </p:nvSpPr>
        <p:spPr>
          <a:xfrm>
            <a:off x="1403280" y="285264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Youthpass-Logo"/>
          <p:cNvPicPr/>
          <p:nvPr/>
        </p:nvPicPr>
        <p:blipFill>
          <a:blip r:embed="rId5"/>
          <a:stretch/>
        </p:blipFill>
        <p:spPr>
          <a:xfrm>
            <a:off x="6588000" y="2133720"/>
            <a:ext cx="13338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D238-6F8A-47EE-8F14-A9EAEE0EB98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609480" y="1447920"/>
            <a:ext cx="830592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thpass in Action(s) –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outhpass in Action  1.2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th Initiativ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ists since April 2010, retroactively valid since 2007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’s a more educative approach in the website to support the Y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s – methods, directive questions, e-mail reminder,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feedb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questionnai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thpass Guide chapter on Youth Initiatives about to be publish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questionnaire will be uploaded in the coming wee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533520" y="228600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Youthpass-Logo"/>
          <p:cNvPicPr/>
          <p:nvPr/>
        </p:nvPicPr>
        <p:blipFill>
          <a:blip r:embed="rId5"/>
          <a:stretch/>
        </p:blipFill>
        <p:spPr>
          <a:xfrm>
            <a:off x="7010280" y="1752480"/>
            <a:ext cx="14432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D84B-B201-4A41-9796-B0D367FFFFA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457200" y="1905120"/>
            <a:ext cx="868680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thpass in Action(s) –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EW! Youthpass in Action – 1.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a next step, Youthpass will be developed for Youth Democra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jec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st phase developed in 201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533520" y="259092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Youthpass-Logo"/>
          <p:cNvPicPr/>
          <p:nvPr/>
        </p:nvPicPr>
        <p:blipFill>
          <a:blip r:embed="rId5"/>
          <a:stretch/>
        </p:blipFill>
        <p:spPr>
          <a:xfrm>
            <a:off x="7238880" y="1981080"/>
            <a:ext cx="14432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148A-A297-464E-80DB-AAA9775140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80880" y="1905120"/>
            <a:ext cx="90676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59" name="Line 8"/>
          <p:cNvSpPr/>
          <p:nvPr/>
        </p:nvSpPr>
        <p:spPr>
          <a:xfrm>
            <a:off x="685800" y="281952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Youthpass-Logo"/>
          <p:cNvPicPr/>
          <p:nvPr/>
        </p:nvPicPr>
        <p:blipFill>
          <a:blip r:embed="rId5"/>
          <a:stretch/>
        </p:blipFill>
        <p:spPr>
          <a:xfrm>
            <a:off x="7315200" y="2209680"/>
            <a:ext cx="1333440" cy="343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520560" y="2895480"/>
            <a:ext cx="172468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thpass for European Voluntary Servi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rtificate vers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e available in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ec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utch, English, Estonian, Finnis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lemis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rench, German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ee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ungari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talian, Lithuani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orwegian, Polish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tugue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omanian, Slovak, Slovenian, Spanish, Swedish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urkish;  Icelandic and Croatian following soo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8D33-8871-4EEC-84BB-79AF2C4F0B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457200" y="198108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69" name="Line 8"/>
          <p:cNvSpPr/>
          <p:nvPr/>
        </p:nvSpPr>
        <p:spPr>
          <a:xfrm>
            <a:off x="609480" y="289548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Youthpass-Logo"/>
          <p:cNvPicPr/>
          <p:nvPr/>
        </p:nvPicPr>
        <p:blipFill>
          <a:blip r:embed="rId5"/>
          <a:stretch/>
        </p:blipFill>
        <p:spPr>
          <a:xfrm>
            <a:off x="7391520" y="2362320"/>
            <a:ext cx="1333440" cy="342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533520" y="312408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thpass for European Voluntary Servi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ery actively us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ropean Year of Volunteering: EVS and Youthpass experiences presented in the launch ev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0FA1-8A9F-499E-9B7B-0F66E5E5DC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457200" y="18288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79" name="Line 8"/>
          <p:cNvSpPr/>
          <p:nvPr/>
        </p:nvSpPr>
        <p:spPr>
          <a:xfrm>
            <a:off x="609480" y="289548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Youthpass-Logo"/>
          <p:cNvPicPr/>
          <p:nvPr/>
        </p:nvPicPr>
        <p:blipFill>
          <a:blip r:embed="rId5"/>
          <a:stretch/>
        </p:blipFill>
        <p:spPr>
          <a:xfrm>
            <a:off x="7315200" y="2362320"/>
            <a:ext cx="1333440" cy="342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533520" y="320040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thpass for Youth in the World (Youth Exchanges and Training Courses) - A.3.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 since April 2009, Youthpass is available for this action and i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troactively val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projects supported since 01 January 2007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45DF-D235-41F2-B36E-DDE9F36D52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533880" y="1828800"/>
            <a:ext cx="9372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89" name="Line 8"/>
          <p:cNvSpPr/>
          <p:nvPr/>
        </p:nvSpPr>
        <p:spPr>
          <a:xfrm>
            <a:off x="533520" y="281952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9" descr="Youthpass-Logo"/>
          <p:cNvPicPr/>
          <p:nvPr/>
        </p:nvPicPr>
        <p:blipFill>
          <a:blip r:embed="rId5"/>
          <a:stretch/>
        </p:blipFill>
        <p:spPr>
          <a:xfrm>
            <a:off x="7620120" y="2286000"/>
            <a:ext cx="1333440" cy="3430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0"/>
          <p:cNvSpPr/>
          <p:nvPr/>
        </p:nvSpPr>
        <p:spPr>
          <a:xfrm>
            <a:off x="609480" y="32004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thpass for Training Courses.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4.3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 far only training courses, will be developed also for seminars and job shadowing projects, testing in 201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D1BF-C474-4B98-9869-3298191C943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533880" y="1371600"/>
            <a:ext cx="9372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4.3 Training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99" name="Line 8"/>
          <p:cNvSpPr/>
          <p:nvPr/>
        </p:nvSpPr>
        <p:spPr>
          <a:xfrm>
            <a:off x="533520" y="22096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Youthpass-Logo"/>
          <p:cNvPicPr/>
          <p:nvPr/>
        </p:nvPicPr>
        <p:blipFill>
          <a:blip r:embed="rId5"/>
          <a:stretch/>
        </p:blipFill>
        <p:spPr>
          <a:xfrm>
            <a:off x="7467480" y="1523880"/>
            <a:ext cx="1333800" cy="3430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1"/>
          <p:cNvSpPr/>
          <p:nvPr/>
        </p:nvSpPr>
        <p:spPr>
          <a:xfrm>
            <a:off x="457200" y="2971800"/>
            <a:ext cx="436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 description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ining Cour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go &amp; Sign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 and reference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2" descr=""/>
          <p:cNvPicPr/>
          <p:nvPr/>
        </p:nvPicPr>
        <p:blipFill>
          <a:blip r:embed="rId6"/>
          <a:stretch/>
        </p:blipFill>
        <p:spPr>
          <a:xfrm>
            <a:off x="5943600" y="2438280"/>
            <a:ext cx="2765520" cy="3962520"/>
          </a:xfrm>
          <a:prstGeom prst="rect">
            <a:avLst/>
          </a:prstGeom>
          <a:ln w="0">
            <a:noFill/>
          </a:ln>
        </p:spPr>
      </p:pic>
      <p:sp>
        <p:nvSpPr>
          <p:cNvPr id="203" name="Line 13"/>
          <p:cNvSpPr/>
          <p:nvPr/>
        </p:nvSpPr>
        <p:spPr>
          <a:xfrm>
            <a:off x="3657600" y="3124080"/>
            <a:ext cx="2521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5"/>
          <p:cNvSpPr/>
          <p:nvPr/>
        </p:nvSpPr>
        <p:spPr>
          <a:xfrm>
            <a:off x="3505320" y="4876920"/>
            <a:ext cx="2666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4876920" y="4114800"/>
            <a:ext cx="1295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>
            <a:off x="3505320" y="5715000"/>
            <a:ext cx="2590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9F9A-D74A-401B-8F78-F01691D53B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-533880" y="1371600"/>
            <a:ext cx="9372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4.3 Training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214" name="Line 8"/>
          <p:cNvSpPr/>
          <p:nvPr/>
        </p:nvSpPr>
        <p:spPr>
          <a:xfrm>
            <a:off x="533520" y="22096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Youthpass-Logo"/>
          <p:cNvPicPr/>
          <p:nvPr/>
        </p:nvPicPr>
        <p:blipFill>
          <a:blip r:embed="rId5"/>
          <a:stretch/>
        </p:blipFill>
        <p:spPr>
          <a:xfrm>
            <a:off x="7467480" y="1523880"/>
            <a:ext cx="1333800" cy="343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0"/>
          <p:cNvSpPr/>
          <p:nvPr/>
        </p:nvSpPr>
        <p:spPr>
          <a:xfrm>
            <a:off x="457200" y="2971800"/>
            <a:ext cx="436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ganis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he training cou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ims and objecti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cipa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y are coming fr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iners, main cont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firm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y sign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4114800" y="312408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V="1">
            <a:off x="1447920" y="4343040"/>
            <a:ext cx="4724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403848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581280" y="5486400"/>
            <a:ext cx="2514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"/>
          <p:cNvPicPr/>
          <p:nvPr/>
        </p:nvPicPr>
        <p:blipFill>
          <a:blip r:embed="rId6"/>
          <a:stretch/>
        </p:blipFill>
        <p:spPr>
          <a:xfrm>
            <a:off x="6172200" y="2514600"/>
            <a:ext cx="2832120" cy="4005360"/>
          </a:xfrm>
          <a:prstGeom prst="rect">
            <a:avLst/>
          </a:prstGeom>
          <a:ln w="0">
            <a:noFill/>
          </a:ln>
        </p:spPr>
      </p:pic>
      <p:sp>
        <p:nvSpPr>
          <p:cNvPr id="222" name="Line 17"/>
          <p:cNvSpPr/>
          <p:nvPr/>
        </p:nvSpPr>
        <p:spPr>
          <a:xfrm flipV="1">
            <a:off x="4800600" y="411444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3200400" y="4648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0F66-F43D-41D7-A511-DEE69DA7D8A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-533880" y="1371600"/>
            <a:ext cx="9372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4.3 Training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231" name="Line 8"/>
          <p:cNvSpPr/>
          <p:nvPr/>
        </p:nvSpPr>
        <p:spPr>
          <a:xfrm>
            <a:off x="533520" y="22096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Youthpass-Logo"/>
          <p:cNvPicPr/>
          <p:nvPr/>
        </p:nvPicPr>
        <p:blipFill>
          <a:blip r:embed="rId5"/>
          <a:stretch/>
        </p:blipFill>
        <p:spPr>
          <a:xfrm>
            <a:off x="7467480" y="1523880"/>
            <a:ext cx="1333800" cy="3430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0"/>
          <p:cNvSpPr/>
          <p:nvPr/>
        </p:nvSpPr>
        <p:spPr>
          <a:xfrm>
            <a:off x="380880" y="2514600"/>
            <a:ext cx="436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ge 3 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lf-assessment/Lear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description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arning outco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ey Competenc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gnatur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particip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 flipV="1">
            <a:off x="4267080" y="3200400"/>
            <a:ext cx="1981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3581280" y="4648320"/>
            <a:ext cx="274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3962520" y="3886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2057400" y="5181480"/>
            <a:ext cx="4191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7" descr=""/>
          <p:cNvPicPr/>
          <p:nvPr/>
        </p:nvPicPr>
        <p:blipFill>
          <a:blip r:embed="rId6"/>
          <a:stretch/>
        </p:blipFill>
        <p:spPr>
          <a:xfrm>
            <a:off x="6311880" y="2362320"/>
            <a:ext cx="2832120" cy="4005000"/>
          </a:xfrm>
          <a:prstGeom prst="rect">
            <a:avLst/>
          </a:prstGeom>
          <a:ln w="0">
            <a:noFill/>
          </a:ln>
        </p:spPr>
      </p:pic>
      <p:sp>
        <p:nvSpPr>
          <p:cNvPr id="239" name="Line 18"/>
          <p:cNvSpPr/>
          <p:nvPr/>
        </p:nvSpPr>
        <p:spPr>
          <a:xfrm flipV="1">
            <a:off x="3733920" y="5715000"/>
            <a:ext cx="2971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10B1-4FE7-4338-9B2C-21FAA5EE803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80880" y="190512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247" name="Line 8"/>
          <p:cNvSpPr/>
          <p:nvPr/>
        </p:nvSpPr>
        <p:spPr>
          <a:xfrm>
            <a:off x="609480" y="289548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Youthpass-Logo"/>
          <p:cNvPicPr/>
          <p:nvPr/>
        </p:nvPicPr>
        <p:blipFill>
          <a:blip r:embed="rId5"/>
          <a:stretch/>
        </p:blipFill>
        <p:spPr>
          <a:xfrm>
            <a:off x="7391520" y="2362320"/>
            <a:ext cx="1333440" cy="342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"/>
          <p:cNvSpPr/>
          <p:nvPr/>
        </p:nvSpPr>
        <p:spPr>
          <a:xfrm>
            <a:off x="533520" y="3124080"/>
            <a:ext cx="82296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EW! Youthpass in Action(s) – 5.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a next step, Youthpass will be developed for Meetings of young people and those responsible for youth policy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st phase developed in 201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AB1A-D340-45A5-B298-95E75EBBA08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81240" y="19051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87624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inciples of Youthpass in Youth i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64" name="Line 8"/>
          <p:cNvSpPr/>
          <p:nvPr/>
        </p:nvSpPr>
        <p:spPr>
          <a:xfrm>
            <a:off x="685800" y="28954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Youthpass-Logo"/>
          <p:cNvPicPr/>
          <p:nvPr/>
        </p:nvPicPr>
        <p:blipFill>
          <a:blip r:embed="rId5"/>
          <a:stretch/>
        </p:blipFill>
        <p:spPr>
          <a:xfrm>
            <a:off x="7238880" y="1905120"/>
            <a:ext cx="1333800" cy="342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"/>
          <p:cNvSpPr/>
          <p:nvPr/>
        </p:nvSpPr>
        <p:spPr>
          <a:xfrm>
            <a:off x="569160" y="2955960"/>
            <a:ext cx="78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Strategy on the validation and recognition o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formal learning within the context of Youth in A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nd will be used in an European contex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o validate learning outco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6091-25DA-45B8-AFA5-B9A34DDCC65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533520" y="1752480"/>
            <a:ext cx="8305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thpass in Youth in Actio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thpass and planning-evaluating the learning experienc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plan to b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tter integrated in the Programme Guide 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ll as in the application form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>
            <a:off x="609480" y="236232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1" descr="Youthpass-Logo"/>
          <p:cNvPicPr/>
          <p:nvPr/>
        </p:nvPicPr>
        <p:blipFill>
          <a:blip r:embed="rId5"/>
          <a:stretch/>
        </p:blipFill>
        <p:spPr>
          <a:xfrm>
            <a:off x="6659640" y="1555920"/>
            <a:ext cx="1442880" cy="37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E742-280A-4DA0-9E36-205F3E4D54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-457200" y="83808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cal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267" name="Line 8"/>
          <p:cNvSpPr/>
          <p:nvPr/>
        </p:nvSpPr>
        <p:spPr>
          <a:xfrm>
            <a:off x="533520" y="182880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Youthpass-Logo"/>
          <p:cNvPicPr/>
          <p:nvPr/>
        </p:nvPicPr>
        <p:blipFill>
          <a:blip r:embed="rId5"/>
          <a:stretch/>
        </p:blipFill>
        <p:spPr>
          <a:xfrm>
            <a:off x="7467480" y="1371600"/>
            <a:ext cx="1333800" cy="3430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0"/>
          <p:cNvSpPr/>
          <p:nvPr/>
        </p:nvSpPr>
        <p:spPr>
          <a:xfrm>
            <a:off x="609480" y="1981080"/>
            <a:ext cx="8305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solution to generate Youthpass at organisational leve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thpass is located at COM web s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ww.youthpass.e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3" descr=""/>
          <p:cNvPicPr/>
          <p:nvPr/>
        </p:nvPicPr>
        <p:blipFill>
          <a:blip r:embed="rId6"/>
          <a:stretch/>
        </p:blipFill>
        <p:spPr>
          <a:xfrm>
            <a:off x="2514600" y="2743200"/>
            <a:ext cx="4294080" cy="3219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Untitled2"/>
          <p:cNvPicPr/>
          <p:nvPr/>
        </p:nvPicPr>
        <p:blipFill>
          <a:blip r:embed="rId7"/>
          <a:stretch/>
        </p:blipFill>
        <p:spPr>
          <a:xfrm>
            <a:off x="2514600" y="2743200"/>
            <a:ext cx="42926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F685-B463-4D11-842F-25390F140A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533520" y="1676520"/>
            <a:ext cx="86104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thpass result analys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thpass-related developments since 2005 http://www.youthpass.eu/en/youthpass/downloads/analysis/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Youthpass – state of pla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an Commission proposes to pursue and consolidate the Youthpass implementation until the end of the Youth in Action perio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youthpass.eu/downloads/13-62-55/Youthpass-state-of-play.pd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609480" y="220968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Youthpass-Logo"/>
          <p:cNvPicPr/>
          <p:nvPr/>
        </p:nvPicPr>
        <p:blipFill>
          <a:blip r:embed="rId5"/>
          <a:stretch/>
        </p:blipFill>
        <p:spPr>
          <a:xfrm>
            <a:off x="6659640" y="1555920"/>
            <a:ext cx="1442880" cy="37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1D2B-9B9D-4F5C-855D-AAAC5C67E7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8"/>
          <p:cNvSpPr/>
          <p:nvPr/>
        </p:nvSpPr>
        <p:spPr>
          <a:xfrm>
            <a:off x="457200" y="1676520"/>
            <a:ext cx="8686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coming activit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thpass gui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hapter Action 1.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under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ransl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Youthpass guide: DE, GR, SI, PT, ES and HR on the 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533520" y="22096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0" descr="Youthpass-Logo"/>
          <p:cNvPicPr/>
          <p:nvPr/>
        </p:nvPicPr>
        <p:blipFill>
          <a:blip r:embed="rId5"/>
          <a:stretch/>
        </p:blipFill>
        <p:spPr>
          <a:xfrm>
            <a:off x="6659640" y="1555920"/>
            <a:ext cx="1442880" cy="3711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1"/>
          <p:cNvSpPr/>
          <p:nvPr/>
        </p:nvSpPr>
        <p:spPr>
          <a:xfrm>
            <a:off x="457200" y="3429000"/>
            <a:ext cx="853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thpass websi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wnloads sec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analysis / booklet “Youthpass for ALL!” /essay “The Youthpass process and Learning to Learn. Some ideas for practitioners” / The booklet for EVS trainers “Youthpass in the EVS training cycle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rend: 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 technique to more educational suppor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practice, experiences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819F-572D-4129-B48D-F95FC28B91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-457200" y="13716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TO T&amp;CRC Suppor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300" name="Line 8"/>
          <p:cNvSpPr/>
          <p:nvPr/>
        </p:nvSpPr>
        <p:spPr>
          <a:xfrm>
            <a:off x="533520" y="19810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Youthpass-Logo"/>
          <p:cNvPicPr/>
          <p:nvPr/>
        </p:nvPicPr>
        <p:blipFill>
          <a:blip r:embed="rId5"/>
          <a:stretch/>
        </p:blipFill>
        <p:spPr>
          <a:xfrm>
            <a:off x="7238880" y="1447920"/>
            <a:ext cx="1333800" cy="3427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10"/>
          <p:cNvSpPr/>
          <p:nvPr/>
        </p:nvSpPr>
        <p:spPr>
          <a:xfrm>
            <a:off x="609480" y="2209680"/>
            <a:ext cx="81536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technical questions(Data protection &amp; security, procedures, monitoring...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eb site www.youthandrecognition.e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ommunication strategy (NAs, Project Promoters, trainers and youth workers, participants, various stakeholder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raining cours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upport(Help desk for NAs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328E-C83E-45CC-8402-302139355AD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8"/>
          <p:cNvSpPr/>
          <p:nvPr/>
        </p:nvSpPr>
        <p:spPr>
          <a:xfrm>
            <a:off x="609480" y="1676520"/>
            <a:ext cx="822960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gnition of non-formal learning and Youth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ass changes expected i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ass + European Skills Passport – formal, non-formal and informa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ing (needs to be documented). Youthpass expected to 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tible with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general the development towards integrating the key compet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amework in the EP documents – common language in different fiel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thways paper 2.0 -&gt; European Expert group on recognition of you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and NF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ymposium of NFL in Nov, Strasbou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>
            <a:off x="609480" y="220968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0" descr="Youthpass-Logo"/>
          <p:cNvPicPr/>
          <p:nvPr/>
        </p:nvPicPr>
        <p:blipFill>
          <a:blip r:embed="rId5"/>
          <a:stretch/>
        </p:blipFill>
        <p:spPr>
          <a:xfrm>
            <a:off x="7701120" y="1295280"/>
            <a:ext cx="144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86B3-5423-40D8-877F-EFCF39F64B1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8"/>
          <p:cNvSpPr/>
          <p:nvPr/>
        </p:nvSpPr>
        <p:spPr>
          <a:xfrm>
            <a:off x="1258920" y="1773360"/>
            <a:ext cx="734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9"/>
          <p:cNvSpPr/>
          <p:nvPr/>
        </p:nvSpPr>
        <p:spPr>
          <a:xfrm>
            <a:off x="1403280" y="220500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1619280" y="2349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1547640" y="256536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1476360" y="249228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476360" y="242244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258920" y="2421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476360" y="360684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4716360" y="276552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908000" y="2492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8" descr="Winkende-Menschen"/>
          <p:cNvPicPr/>
          <p:nvPr/>
        </p:nvPicPr>
        <p:blipFill>
          <a:blip r:embed="rId5"/>
          <a:stretch/>
        </p:blipFill>
        <p:spPr>
          <a:xfrm>
            <a:off x="4427640" y="3068640"/>
            <a:ext cx="3655800" cy="24001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9"/>
          <p:cNvSpPr/>
          <p:nvPr/>
        </p:nvSpPr>
        <p:spPr>
          <a:xfrm>
            <a:off x="1042920" y="3213000"/>
            <a:ext cx="2665440" cy="307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e of art: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Feb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1763640" y="2565360"/>
            <a:ext cx="478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ank you very much for your attention !!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1042920" y="3789360"/>
            <a:ext cx="27352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tact: Kristiina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Pernits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kristiina@salto-youth.ne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Recognition news on Twitte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9999"/>
                </a:solidFill>
                <a:latin typeface="Arial"/>
              </a:rPr>
              <a:t>SALTOrecognit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2" descr="Youthpass-Logo"/>
          <p:cNvPicPr/>
          <p:nvPr/>
        </p:nvPicPr>
        <p:blipFill>
          <a:blip r:embed="rId6"/>
          <a:stretch/>
        </p:blipFill>
        <p:spPr>
          <a:xfrm>
            <a:off x="6877080" y="1557360"/>
            <a:ext cx="133344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04A5-4A7E-414D-B6BE-0F7B78DCC71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05280" y="19807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lvl="2" marL="16164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inciples of Youthpass in Youth i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thpass was developed with different stakeholder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Commission , National Agen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nership - The Council of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uropean Youth For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 form the Youth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tions, participants and stakeholders from the private and public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74" name="Line 8"/>
          <p:cNvSpPr/>
          <p:nvPr/>
        </p:nvSpPr>
        <p:spPr>
          <a:xfrm>
            <a:off x="685800" y="28954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Youthpass-Logo"/>
          <p:cNvPicPr/>
          <p:nvPr/>
        </p:nvPicPr>
        <p:blipFill>
          <a:blip r:embed="rId5"/>
          <a:stretch/>
        </p:blipFill>
        <p:spPr>
          <a:xfrm>
            <a:off x="7391520" y="1371600"/>
            <a:ext cx="133344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4BED-0C66-4851-BA8C-8C887ABEB6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457560" y="1600200"/>
            <a:ext cx="88390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2" marL="81900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inciples of Youthpass in Youth i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thpass is linked to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The Lisbon strate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and Jobs communication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the European Youth pact Integrated guide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the Lifelong Learning strategy/Education and Training 2010 work programme (EQF, Key Competences..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Youth policy development of the EC: White paper process (2001), The Pathway towards validation and recognition (2004) and the Resolution of the Council on the recognition of the value of non-formal and informal learning within the European youth field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83" name="Line 8"/>
          <p:cNvSpPr/>
          <p:nvPr/>
        </p:nvSpPr>
        <p:spPr>
          <a:xfrm>
            <a:off x="533520" y="24382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Youthpass-Logo"/>
          <p:cNvPicPr/>
          <p:nvPr/>
        </p:nvPicPr>
        <p:blipFill>
          <a:blip r:embed="rId5"/>
          <a:stretch/>
        </p:blipFill>
        <p:spPr>
          <a:xfrm>
            <a:off x="7543800" y="1523880"/>
            <a:ext cx="133344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B330-1612-48C1-A366-7B3F240BB4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533520" y="1523880"/>
            <a:ext cx="92203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82872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inciples of Youthpass in Youth i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872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872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thpass uses the Key Competences (adopted in December 2006, part of European Qualifications Framework)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in mother to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in foreign tong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al competence and basic competence in science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compe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to le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and civ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e of initiative and entrepreneur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awareness and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87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92" name="Line 8"/>
          <p:cNvSpPr/>
          <p:nvPr/>
        </p:nvSpPr>
        <p:spPr>
          <a:xfrm>
            <a:off x="533520" y="19810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Youthpass-Logo"/>
          <p:cNvPicPr/>
          <p:nvPr/>
        </p:nvPicPr>
        <p:blipFill>
          <a:blip r:embed="rId5"/>
          <a:stretch/>
        </p:blipFill>
        <p:spPr>
          <a:xfrm>
            <a:off x="7543800" y="1219320"/>
            <a:ext cx="133344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D412-4CFD-466D-9FAA-779926CF93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457560" y="1981080"/>
            <a:ext cx="89154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inciples of Youthpass in Youth i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s should be developed in a way that takes full accoun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essential e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olved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 algn="ctr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flection upon the personal non-formal learning proce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 algn="ctr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cial recognition of youth wor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 algn="ctr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mployability of young people and you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01" name="Line 8"/>
          <p:cNvSpPr/>
          <p:nvPr/>
        </p:nvSpPr>
        <p:spPr>
          <a:xfrm>
            <a:off x="609480" y="297180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Youthpass-Logo"/>
          <p:cNvPicPr/>
          <p:nvPr/>
        </p:nvPicPr>
        <p:blipFill>
          <a:blip r:embed="rId5"/>
          <a:stretch/>
        </p:blipFill>
        <p:spPr>
          <a:xfrm>
            <a:off x="7315200" y="1905120"/>
            <a:ext cx="133344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8DDB-74EA-438C-88E8-997FB162B4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839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inciples of Youthpass in Youth i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articipant in Youth in Action activities of Action 1.1, 1.2 , Action 2, Action 3.1(youth excanges and training courses) and Action 4.3 is individual entitled to receive Youthpa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ponsibility to implement, generate and issue Youthpass is at organisational level. National Agencies offer support in different ways (link, information, training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10" name="Line 8"/>
          <p:cNvSpPr/>
          <p:nvPr/>
        </p:nvSpPr>
        <p:spPr>
          <a:xfrm>
            <a:off x="533520" y="2514600"/>
            <a:ext cx="8001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Youthpass-Logo"/>
          <p:cNvPicPr/>
          <p:nvPr/>
        </p:nvPicPr>
        <p:blipFill>
          <a:blip r:embed="rId5"/>
          <a:stretch/>
        </p:blipFill>
        <p:spPr>
          <a:xfrm>
            <a:off x="7315200" y="1600200"/>
            <a:ext cx="133344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E6F8-077F-4D21-9955-0F03DC746A8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80880" y="198108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>
            <a:off x="609480" y="289548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Youthpass-Logo"/>
          <p:cNvPicPr/>
          <p:nvPr/>
        </p:nvPicPr>
        <p:blipFill>
          <a:blip r:embed="rId5"/>
          <a:stretch/>
        </p:blipFill>
        <p:spPr>
          <a:xfrm>
            <a:off x="7467480" y="2286000"/>
            <a:ext cx="1333800" cy="343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1371600" y="312408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outhpass in Action  1.1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th Exchang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rtificate vers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e available in 21 languages so far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ertificate is about to change in the coming months and include the description of learning result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E296-1CFF-44AE-800B-FA6AAAA472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-457200" y="175248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29" name="Line 8"/>
          <p:cNvSpPr/>
          <p:nvPr/>
        </p:nvSpPr>
        <p:spPr>
          <a:xfrm>
            <a:off x="609480" y="281952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Youthpass-Logo"/>
          <p:cNvPicPr/>
          <p:nvPr/>
        </p:nvPicPr>
        <p:blipFill>
          <a:blip r:embed="rId5"/>
          <a:stretch/>
        </p:blipFill>
        <p:spPr>
          <a:xfrm>
            <a:off x="7391520" y="2286000"/>
            <a:ext cx="1333440" cy="343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609480" y="3048120"/>
            <a:ext cx="822960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outhpass in Action  1.1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th Exchan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gration of individual learning results (key competen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grated approach as in EVS and training courses (page 1 &amp; 2, KCs from page 3 onwar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2:44:05Z</dcterms:created>
  <dc:creator>Frank Peil</dc:creator>
  <dc:description/>
  <dc:language>en-US</dc:language>
  <cp:lastModifiedBy>Markus Rebitschek</cp:lastModifiedBy>
  <dcterms:modified xsi:type="dcterms:W3CDTF">2012-03-12T21:09:15Z</dcterms:modified>
  <cp:revision>115</cp:revision>
  <dc:subject/>
  <dc:title>PowerPoint Presentation  -  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